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85574-96FB-47BE-8933-1D6E46B5B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AC6D-F20E-4967-92B8-615A953AE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516B-7555-4751-A12B-B58625601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7AB2-B1E6-4A62-84B2-D8BB2015AE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7F2DB-DBCD-4D15-B69A-C69DB03FB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60B0A-FF04-405F-BAE3-6EA1B97A85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B6F72-5679-4916-B7A1-9B5737CE09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34363-71B7-40DE-82CB-DB882F40BF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E481F-6BF2-42D1-80A4-8DA728F18C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BAB14-B9E1-46C4-A12E-FCD926A2F4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0E88E-2816-49F4-AF1B-635DB35F2A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395B6-C5DF-4F72-8BBF-ED0AED4CB5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6F441-0C53-43E5-8CB8-E4C3EAC391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DD2C6-119B-48F9-BFA9-5AB17D69EF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7AE1B-7788-498E-96E8-748D645B28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0BCA1-B99A-4CFD-BC8F-85BE2FFDBF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88EB-1B54-46F7-AFF7-CCB7632869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32EFD-EB29-4189-B7BC-7FB97F8126E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0834-35CF-434E-88F0-D97D67F153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C98-98DD-4252-AA11-E16F788860C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E49-18BE-42EA-95CF-B7BD0A1D4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0B21C-77C2-4DE1-B016-5561C507ED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067-B82A-40C5-AD21-CD0866ABC5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E03-23D3-49E4-8006-5431565CA2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E62-84EA-4B4C-A249-3D2109BCE77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CD81-0F48-4C89-8080-F3CDBDAFE2D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ABFC-3C99-4695-BD97-B2FF9004BA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E7B-8FA9-4169-BA35-5CC672F0036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F11-39FC-49E1-8C1F-B4D6E33ADF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BF4-D433-453D-8A17-1728E3DEDA8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612-225D-459A-9F66-CF23D62D0BA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00F81-F577-4C4D-A44D-D7E3ECB42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B33D-7F8A-4A29-A02E-5CC948FD41C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7164D-9917-4295-8C2F-66554CE2F18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24392-3516-4A50-B3BF-7B19E88A23C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04642-A146-4A6D-85C7-D0934FFB424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44CD6-41B6-42F7-95D9-94BF17CE93B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E6BA6-D0BF-465D-AD1C-517455BFF42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D5992-3FCB-4E5B-A61E-8CB8CDAD643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84FF8-7CBB-4974-B0A1-B2B7121D1F8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09C80-9F08-4F13-886B-2E3AE3FC539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B2F42-8242-4978-AEC4-255469765CF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77353-1DE2-46C3-9094-4CBFB1118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05DD-CDD6-45E7-8E4A-6469274E0DA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8D8D7-D76A-4EF9-A2F0-474627B0CBB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75C1A-84D2-498A-98AD-E276B64E2C2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E74C4-70C4-476F-B8D4-0DA601CF43A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DBAF6-6B2A-47AB-8022-FBF30D2D14E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F9E40-214A-4636-965B-545A7977652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29653-7FF2-4C1D-825C-DEA56B4137A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43030-64C9-4E56-8F70-8C261100C8F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34DE4-A074-492B-B89F-465D8182814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E371B-6CCE-4E69-806B-F3AC93B26CA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5868F-B973-488C-A16D-ED81BE5E6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1C1A-76DC-44D5-BB2A-081EF95965A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4DCDC-2E8F-4BAB-B462-F0AE80E8FBD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B6034-40B5-497B-828A-107FC2631BC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E766E-BB3F-4F11-AD21-2E45FEFB9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5207-CFE8-496A-99CE-F60F1E234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1D5C7-C2C2-44FE-9289-93114C03D3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0EB5-2693-4E4B-AD4B-798B20E438DE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428760"/>
            <a:ext cx="8686800" cy="640080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Rectangle 10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56" name="Rectangle 10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6"/>
          <p:cNvSpPr/>
          <p:nvPr/>
        </p:nvSpPr>
        <p:spPr>
          <a:xfrm rot="16200000">
            <a:off x="-2063880" y="387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5720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xc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990720" y="1660680"/>
            <a:ext cx="8153280" cy="4114800"/>
            <a:chOff x="990720" y="1660680"/>
            <a:chExt cx="8153280" cy="4114800"/>
          </a:xfrm>
        </p:grpSpPr>
        <p:sp>
          <p:nvSpPr>
            <p:cNvPr id="62" name="Rectangle 4"/>
            <p:cNvSpPr/>
            <p:nvPr/>
          </p:nvSpPr>
          <p:spPr>
            <a:xfrm>
              <a:off x="7132680" y="1660680"/>
              <a:ext cx="201132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4"/>
            <a:stretch/>
          </p:blipFill>
          <p:spPr>
            <a:xfrm>
              <a:off x="990720" y="1660680"/>
              <a:ext cx="617220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4"/>
          <p:cNvSpPr/>
          <p:nvPr/>
        </p:nvSpPr>
        <p:spPr>
          <a:xfrm>
            <a:off x="1447920" y="-76320"/>
            <a:ext cx="0" cy="76320"/>
          </a:xfrm>
          <a:prstGeom prst="line">
            <a:avLst/>
          </a:prstGeom>
          <a:ln w="9360">
            <a:solidFill>
              <a:srgbClr val="9bd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2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BCA6-EDBB-4781-A130-47F4D93C8880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6"/>
          <p:cNvSpPr/>
          <p:nvPr/>
        </p:nvSpPr>
        <p:spPr>
          <a:xfrm>
            <a:off x="0" y="0"/>
            <a:ext cx="1066680" cy="13716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457200"/>
            <a:ext cx="8686800" cy="6400800"/>
          </a:xfrm>
          <a:prstGeom prst="rect">
            <a:avLst/>
          </a:prstGeom>
          <a:gradFill rotWithShape="0">
            <a:gsLst>
              <a:gs pos="0">
                <a:srgbClr val="26886d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286000" y="2133720"/>
            <a:ext cx="6858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3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160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4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1444680" y="1365120"/>
            <a:ext cx="1682640" cy="3683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545A-2750-45F1-9B9F-7E8789CF5158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4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24CC-37D9-48AA-81DE-014D3FFF4162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5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9D79-0A76-458E-A550-FBD36AE8E6A1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Subtitle 2" descr=""/>
          <p:cNvPicPr/>
          <p:nvPr/>
        </p:nvPicPr>
        <p:blipFill>
          <a:blip r:embed="rId1"/>
          <a:stretch/>
        </p:blipFill>
        <p:spPr>
          <a:xfrm>
            <a:off x="4084560" y="1646280"/>
            <a:ext cx="4456080" cy="725400"/>
          </a:xfrm>
          <a:prstGeom prst="rect">
            <a:avLst/>
          </a:prstGeom>
          <a:ln w="0">
            <a:noFill/>
          </a:ln>
        </p:spPr>
      </p:pic>
      <p:pic>
        <p:nvPicPr>
          <p:cNvPr id="296" name="Title 1" descr=""/>
          <p:cNvPicPr/>
          <p:nvPr/>
        </p:nvPicPr>
        <p:blipFill>
          <a:blip r:embed="rId2"/>
          <a:stretch/>
        </p:blipFill>
        <p:spPr>
          <a:xfrm>
            <a:off x="3943440" y="2255760"/>
            <a:ext cx="4981320" cy="330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2286000" y="1546200"/>
            <a:ext cx="4476600" cy="434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20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6A81-F922-4924-9CA4-E9BC7E31E80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990360" y="16761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ormula is an equation that performs a calculation and displays the results in the cell. The formula is visible in the formula ba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ormula is keyed into a cell, or it can be built by pointing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mulas begin with an = sign and use arithmetic operato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6845400" cy="221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8"/>
          <p:cNvSpPr/>
          <p:nvPr/>
        </p:nvSpPr>
        <p:spPr>
          <a:xfrm>
            <a:off x="685800" y="12952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When you key a letter after the = sign, you’ll see the Formula AutoComplete list. Ignore it when it does not suit what you are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2"/>
          <a:srcRect l="0" t="0" r="44603" b="0"/>
          <a:stretch/>
        </p:blipFill>
        <p:spPr>
          <a:xfrm>
            <a:off x="685800" y="2209680"/>
            <a:ext cx="3794040" cy="261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9" name="Picture 5" descr=""/>
          <p:cNvPicPr/>
          <p:nvPr/>
        </p:nvPicPr>
        <p:blipFill>
          <a:blip r:embed="rId3"/>
          <a:srcRect l="0" t="0" r="15988" b="0"/>
          <a:stretch/>
        </p:blipFill>
        <p:spPr>
          <a:xfrm>
            <a:off x="4724280" y="4419720"/>
            <a:ext cx="4173480" cy="18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0" name="TextBox 6"/>
          <p:cNvSpPr/>
          <p:nvPr/>
        </p:nvSpPr>
        <p:spPr>
          <a:xfrm>
            <a:off x="4876920" y="343224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Formula Auto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Straight Arrow Connector 8"/>
          <p:cNvCxnSpPr/>
          <p:nvPr/>
        </p:nvCxnSpPr>
        <p:spPr>
          <a:xfrm flipH="1">
            <a:off x="4479480" y="3585960"/>
            <a:ext cx="473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6"/>
          <p:cNvSpPr/>
          <p:nvPr/>
        </p:nvSpPr>
        <p:spPr>
          <a:xfrm>
            <a:off x="838080" y="152388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tart with the = sign, point to the first cell and click. Then key the arithmetic operator and point/click the next cell. Press [Enter] to fin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2"/>
          <p:cNvSpPr/>
          <p:nvPr/>
        </p:nvSpPr>
        <p:spPr>
          <a:xfrm>
            <a:off x="5867280" y="4419720"/>
            <a:ext cx="9144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3" descr=""/>
          <p:cNvPicPr/>
          <p:nvPr/>
        </p:nvPicPr>
        <p:blipFill>
          <a:blip r:embed="rId2"/>
          <a:stretch/>
        </p:blipFill>
        <p:spPr>
          <a:xfrm>
            <a:off x="954000" y="2590920"/>
            <a:ext cx="7580520" cy="281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6" name="Oval 14"/>
          <p:cNvSpPr/>
          <p:nvPr/>
        </p:nvSpPr>
        <p:spPr>
          <a:xfrm>
            <a:off x="5943600" y="4267080"/>
            <a:ext cx="914400" cy="48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5"/>
          <p:cNvSpPr/>
          <p:nvPr/>
        </p:nvSpPr>
        <p:spPr>
          <a:xfrm>
            <a:off x="3886200" y="2438280"/>
            <a:ext cx="9144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39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40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A044-0355-48C7-A3D4-9228C3E4C808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Rectangle 2" descr=""/>
          <p:cNvPicPr/>
          <p:nvPr/>
        </p:nvPicPr>
        <p:blipFill>
          <a:blip r:embed="rId1"/>
          <a:stretch/>
        </p:blipFill>
        <p:spPr>
          <a:xfrm>
            <a:off x="1023840" y="-6480"/>
            <a:ext cx="8510760" cy="11588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nt commands include a font name, a style (bold, italic), size, and colo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ell style is a set of format choices that can include font settings, borders, fill, and alignment setting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apply font choices or cell styles, the cells should first be select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5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259840" cy="1158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"/>
          <p:cNvPicPr/>
          <p:nvPr/>
        </p:nvPicPr>
        <p:blipFill>
          <a:blip r:embed="rId2"/>
          <a:srcRect l="0" t="0" r="0" b="30369"/>
          <a:stretch/>
        </p:blipFill>
        <p:spPr>
          <a:xfrm>
            <a:off x="876240" y="1709640"/>
            <a:ext cx="7962840" cy="415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5" name="Oval 3"/>
          <p:cNvSpPr/>
          <p:nvPr/>
        </p:nvSpPr>
        <p:spPr>
          <a:xfrm>
            <a:off x="1371600" y="1752480"/>
            <a:ext cx="1828800" cy="1143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range is a group of cells that forms a rectangle. The range address is the upper-left cell address, a colon, and the lower-right cell addres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1371600" y="3048120"/>
            <a:ext cx="6672240" cy="21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12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8484-F864-439B-8C3E-F668BF0410CF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Content Placeholder 3" descr=""/>
          <p:cNvPicPr/>
          <p:nvPr/>
        </p:nvPicPr>
        <p:blipFill>
          <a:blip r:embed="rId2"/>
          <a:stretch/>
        </p:blipFill>
        <p:spPr>
          <a:xfrm>
            <a:off x="378000" y="1395360"/>
            <a:ext cx="844200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1023840" y="195120"/>
            <a:ext cx="8217000" cy="8226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rag across adjacent cells to select a ran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he first cell in the range. Hold down [Shift] and click the last cell in the ran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a column heading letter to select a column or click a row heading number to select a row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rag across adjacent column heading letters or row heading numbers to select multiple columns or row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he Select All button        to select every cell on the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7" descr="2-5"/>
          <p:cNvPicPr/>
          <p:nvPr/>
        </p:nvPicPr>
        <p:blipFill>
          <a:blip r:embed="rId2"/>
          <a:stretch/>
        </p:blipFill>
        <p:spPr>
          <a:xfrm>
            <a:off x="4981680" y="5257800"/>
            <a:ext cx="352440" cy="314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000080" y="-6480"/>
            <a:ext cx="8454960" cy="1158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60068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3200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Mini toolbar appears when you select text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a cel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t provides commands for formatting the selected data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3962520" y="1905120"/>
            <a:ext cx="475920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rcRect l="0" t="0" r="62858" b="47726"/>
          <a:stretch/>
        </p:blipFill>
        <p:spPr>
          <a:xfrm>
            <a:off x="3352680" y="2463840"/>
            <a:ext cx="3733920" cy="394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8" name="Rectangle 2" descr=""/>
          <p:cNvPicPr/>
          <p:nvPr/>
        </p:nvPicPr>
        <p:blipFill>
          <a:blip r:embed="rId2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83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Format Painter is available in all Office applications. You can quickly copy cell formats from one cell to another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1176840" y="4191120"/>
            <a:ext cx="201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Format being cop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1203480" y="5181480"/>
            <a:ext cx="18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Cell to be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Straight Arrow Connector 4"/>
          <p:cNvCxnSpPr/>
          <p:nvPr/>
        </p:nvCxnSpPr>
        <p:spPr>
          <a:xfrm>
            <a:off x="3068280" y="4343040"/>
            <a:ext cx="437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3" name="Straight Arrow Connector 13"/>
          <p:cNvCxnSpPr/>
          <p:nvPr/>
        </p:nvCxnSpPr>
        <p:spPr>
          <a:xfrm>
            <a:off x="2933640" y="533664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65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997240" cy="1511280"/>
          </a:xfrm>
          <a:prstGeom prst="rect">
            <a:avLst/>
          </a:prstGeom>
          <a:ln w="0">
            <a:noFill/>
          </a:ln>
        </p:spPr>
      </p:pic>
      <p:sp>
        <p:nvSpPr>
          <p:cNvPr id="366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6552-3DF4-4835-8D47-4D992901B38D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1006560" y="171360"/>
            <a:ext cx="8350200" cy="84636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4"/>
          <p:cNvSpPr/>
          <p:nvPr/>
        </p:nvSpPr>
        <p:spPr>
          <a:xfrm>
            <a:off x="1828800" y="3276720"/>
            <a:ext cx="363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ome number formats are available on the Ribb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2"/>
          <a:stretch/>
        </p:blipFill>
        <p:spPr>
          <a:xfrm>
            <a:off x="704880" y="1523880"/>
            <a:ext cx="569592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0" name="Picture 4" descr=""/>
          <p:cNvPicPr/>
          <p:nvPr/>
        </p:nvPicPr>
        <p:blipFill>
          <a:blip r:embed="rId3"/>
          <a:stretch/>
        </p:blipFill>
        <p:spPr>
          <a:xfrm>
            <a:off x="6172200" y="2057400"/>
            <a:ext cx="1981080" cy="422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1006560" y="171360"/>
            <a:ext cx="8350200" cy="8463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533160" y="2201760"/>
            <a:ext cx="388620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ressing [Ctrl]+[1]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ight-clicking the cell or range and choosing Format Cell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n the Home tab in the Cells group, clicking the Format button             and choosing Format Cell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762120" y="12952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any more formats are available in the Format Cells dialog box. Open the Format Cells dialog box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2"/>
          <a:stretch/>
        </p:blipFill>
        <p:spPr>
          <a:xfrm>
            <a:off x="2971800" y="4597560"/>
            <a:ext cx="380880" cy="380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4419720" y="2209680"/>
            <a:ext cx="4487760" cy="402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77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78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72FA-623B-416B-BC30-826E882111C0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1219320" y="12952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pie chart graphs one set of values from the worksheet. Each slice represents one valu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1905120" y="2376360"/>
            <a:ext cx="5581440" cy="398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533520" y="2286000"/>
            <a:ext cx="228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e Chart Tools command tabs are available when a chart object is selected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4" name="Picture 4" descr="214-Fig02-11.png"/>
          <p:cNvPicPr/>
          <p:nvPr/>
        </p:nvPicPr>
        <p:blipFill>
          <a:blip r:embed="rId2"/>
          <a:stretch/>
        </p:blipFill>
        <p:spPr>
          <a:xfrm>
            <a:off x="2844720" y="1523880"/>
            <a:ext cx="5994360" cy="449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01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8104-54BC-4B55-99DE-24952FA9FFB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762120" y="1752120"/>
            <a:ext cx="2286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art objects include a title and a lege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7" name="Picture 5" descr="214-Fig02-12.png"/>
          <p:cNvPicPr/>
          <p:nvPr/>
        </p:nvPicPr>
        <p:blipFill>
          <a:blip r:embed="rId2"/>
          <a:stretch/>
        </p:blipFill>
        <p:spPr>
          <a:xfrm>
            <a:off x="3327480" y="1314360"/>
            <a:ext cx="5511600" cy="508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89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90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C08A-514C-4B4A-A2DC-0C5E4A09CC8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150400" cy="11588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document theme includes 2 fonts, 12 colors, and special effec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default document theme for an Excel workbook is name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Offic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 It uses Calibri as the Body font and Cambria as the Headings fon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change the document theme to any theme listed in the Galle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create your own document them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Rectangle 5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rcRect l="0" t="0" r="52933" b="29311"/>
          <a:stretch/>
        </p:blipFill>
        <p:spPr>
          <a:xfrm>
            <a:off x="3200400" y="1371600"/>
            <a:ext cx="2797200" cy="48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rcRect l="0" t="0" r="62542" b="23178"/>
          <a:stretch/>
        </p:blipFill>
        <p:spPr>
          <a:xfrm>
            <a:off x="4654440" y="1298520"/>
            <a:ext cx="3267360" cy="502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7" name="Rectangle 3"/>
          <p:cNvSpPr/>
          <p:nvPr/>
        </p:nvSpPr>
        <p:spPr>
          <a:xfrm>
            <a:off x="914400" y="1828800"/>
            <a:ext cx="3429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me fonts are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listed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at the top of the Font list. You are not limited to theme fonts; you can choose any font in your li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same applies to theme colo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4"/>
          <p:cNvSpPr/>
          <p:nvPr/>
        </p:nvSpPr>
        <p:spPr>
          <a:xfrm>
            <a:off x="5181480" y="1828800"/>
            <a:ext cx="2740320" cy="954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1231920" y="-139680"/>
            <a:ext cx="66992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rename a worksheet with a descriptive name that uses 31 or fewer characte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1160" indent="-2811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choose a color for the worksheet tab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1743120" y="3124080"/>
            <a:ext cx="5877000" cy="292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403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4833720" cy="1511280"/>
          </a:xfrm>
          <a:prstGeom prst="rect">
            <a:avLst/>
          </a:prstGeom>
          <a:ln w="0">
            <a:noFill/>
          </a:ln>
        </p:spPr>
      </p:pic>
      <p:sp>
        <p:nvSpPr>
          <p:cNvPr id="404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647C-D92E-4B8C-AE2C-3C7197C3F75B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32" descr=""/>
          <p:cNvPicPr/>
          <p:nvPr/>
        </p:nvPicPr>
        <p:blipFill>
          <a:blip r:embed="rId1"/>
          <a:stretch/>
        </p:blipFill>
        <p:spPr>
          <a:xfrm>
            <a:off x="1379520" y="2087640"/>
            <a:ext cx="6934320" cy="4249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"/>
          <p:cNvPicPr/>
          <p:nvPr/>
        </p:nvPicPr>
        <p:blipFill>
          <a:blip r:embed="rId2"/>
          <a:stretch/>
        </p:blipFill>
        <p:spPr>
          <a:xfrm>
            <a:off x="1371600" y="2098800"/>
            <a:ext cx="6934320" cy="42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7" name="Rectangle 2" descr=""/>
          <p:cNvPicPr/>
          <p:nvPr/>
        </p:nvPicPr>
        <p:blipFill>
          <a:blip r:embed="rId3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2"/>
          <p:cNvSpPr/>
          <p:nvPr/>
        </p:nvSpPr>
        <p:spPr>
          <a:xfrm>
            <a:off x="762120" y="2590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Left margin mar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4"/>
          <p:cNvSpPr/>
          <p:nvPr/>
        </p:nvSpPr>
        <p:spPr>
          <a:xfrm>
            <a:off x="6705720" y="25909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ight margin mar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4"/>
          <p:cNvSpPr/>
          <p:nvPr/>
        </p:nvSpPr>
        <p:spPr>
          <a:xfrm>
            <a:off x="6610320" y="2274840"/>
            <a:ext cx="380880" cy="154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Straight Arrow Connector 6"/>
          <p:cNvCxnSpPr/>
          <p:nvPr/>
        </p:nvCxnSpPr>
        <p:spPr>
          <a:xfrm flipH="1" flipV="1">
            <a:off x="6857280" y="2361960"/>
            <a:ext cx="610200" cy="25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2" name="Straight Arrow Connector 10"/>
          <p:cNvCxnSpPr>
            <a:stCxn id="408" idx="0"/>
          </p:cNvCxnSpPr>
          <p:nvPr/>
        </p:nvCxnSpPr>
        <p:spPr>
          <a:xfrm flipV="1">
            <a:off x="1600200" y="2361600"/>
            <a:ext cx="4579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3" name="TextBox 24"/>
          <p:cNvSpPr/>
          <p:nvPr/>
        </p:nvSpPr>
        <p:spPr>
          <a:xfrm>
            <a:off x="411120" y="3657600"/>
            <a:ext cx="179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Top margin mar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Straight Arrow Connector 13"/>
          <p:cNvCxnSpPr/>
          <p:nvPr/>
        </p:nvCxnSpPr>
        <p:spPr>
          <a:xfrm flipV="1">
            <a:off x="849240" y="3117600"/>
            <a:ext cx="48960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5" name="Oval 33"/>
          <p:cNvSpPr/>
          <p:nvPr/>
        </p:nvSpPr>
        <p:spPr>
          <a:xfrm>
            <a:off x="6618240" y="2263680"/>
            <a:ext cx="380880" cy="15408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20"/>
          <p:cNvSpPr/>
          <p:nvPr/>
        </p:nvSpPr>
        <p:spPr>
          <a:xfrm>
            <a:off x="1311120" y="2898720"/>
            <a:ext cx="212760" cy="37800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21"/>
          <p:cNvSpPr/>
          <p:nvPr/>
        </p:nvSpPr>
        <p:spPr>
          <a:xfrm>
            <a:off x="3651120" y="5138640"/>
            <a:ext cx="33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Grayed blank page means the worksheet does fit on a single p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8" name="Straight Arrow Connector 23"/>
          <p:cNvCxnSpPr/>
          <p:nvPr/>
        </p:nvCxnSpPr>
        <p:spPr>
          <a:xfrm>
            <a:off x="6762240" y="5283000"/>
            <a:ext cx="1086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9" name="TextBox 16"/>
          <p:cNvSpPr/>
          <p:nvPr/>
        </p:nvSpPr>
        <p:spPr>
          <a:xfrm>
            <a:off x="2209680" y="12952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age Layout View displays margin and column markers. They can be dragged to new sett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header prints at the top of each page in a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ooter prints at the bottom of each pa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aders/footers can each have up to three sect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choose from preset header and footer arrangements or create your ow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2"/>
          <a:srcRect l="0" t="0" r="0" b="29552"/>
          <a:stretch/>
        </p:blipFill>
        <p:spPr>
          <a:xfrm>
            <a:off x="838080" y="1676520"/>
            <a:ext cx="7788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4" name="TextBox 5"/>
          <p:cNvSpPr/>
          <p:nvPr/>
        </p:nvSpPr>
        <p:spPr>
          <a:xfrm>
            <a:off x="6095880" y="58294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Grayed blank page means the worksheet fits on a single p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Straight Arrow Connector 6"/>
          <p:cNvCxnSpPr/>
          <p:nvPr/>
        </p:nvCxnSpPr>
        <p:spPr>
          <a:xfrm flipV="1">
            <a:off x="7543440" y="4528800"/>
            <a:ext cx="1080" cy="126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944640" y="-6480"/>
            <a:ext cx="8308800" cy="115884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3"/>
          <p:cNvSpPr/>
          <p:nvPr/>
        </p:nvSpPr>
        <p:spPr>
          <a:xfrm>
            <a:off x="762120" y="1523880"/>
            <a:ext cx="7924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information are you analyzing? What type of solution are you looking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data will be used? Will it be keyed? Will it be downloaded or copied from another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arithmetic be required in the worksheet? If so, what type of calcul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re there Excel functions that will do the arithmetic? Or will you build formul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9144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efore beginning a workbook, analyze the data and determine what you want to show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lan your worksheet layout and experiment to develop a logical, easy-to-read repor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recognizes data by the first character you key. You can key values, labels, dates, and formul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914040" y="15238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abels are aligned at the left edge of a cell and can spill into the next column if it is empty. Otherwise, they appear cut off on the scree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alues and dates are right-aligned in the cell. There are several preset formats for both values and dat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utoCorrect corrects some typographical errors for labels as you key them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1142640" y="160020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mulas are keyed in a cell using arithmetic symbols and cell references. You can also point to a cell to add its address to a formul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ny formulas use a relative reference so that, when copied, they are updated to show the row and column in which copies are locat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990360" y="152388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ny font and style commands can be applied to a cell range, a group of cell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anges can be selected using the mouse or keyboard command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me formats, such as Accounting Number, can be applied from the Ribbon. Other formats are available in the Format Cells dialog box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ell style is a preset collection of format setting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1142640" y="1752480"/>
            <a:ext cx="7162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document theme is a collection of colors, fonts, and effects for a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ew workbooks use th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Offic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document them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apply a new theme to a workbook from the Galle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990720" y="1828800"/>
            <a:ext cx="71625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pie chart is a popular chart type used to represent one set of numbers from the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worksheet tab name can be changed to a more descriptive name. You can also change the worksheet tab color for visual cu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914400" y="160020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ge Layout view provides quick access to changing margins and column widths, as well as setting headers and foote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header prints at the top of every page. It often includes some type of documentation for the worksheet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ooter prints at the bottom of every pa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023840" y="128520"/>
            <a:ext cx="8309160" cy="8222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838080" y="1606680"/>
            <a:ext cx="7772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the workbook be used on a routine basis? Will data be added to the workbook regularly? Is it a one-time re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other workers use your workb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 there a particular style or format that is expe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it be distributed outside your place of employment? How will it be distribu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1079640" y="171360"/>
            <a:ext cx="8107200" cy="8463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ata appears in the active cell and the formula bar as it is being key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start over for an entry, press          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edit the entry, press              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ata that begins with a letter is recognized as a labe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abels are aligned at the left edge of the cell and are not used in calculat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2"/>
          <a:stretch/>
        </p:blipFill>
        <p:spPr>
          <a:xfrm>
            <a:off x="5867280" y="2743200"/>
            <a:ext cx="457200" cy="355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3"/>
          <a:stretch/>
        </p:blipFill>
        <p:spPr>
          <a:xfrm>
            <a:off x="4648320" y="3200400"/>
            <a:ext cx="83808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927000" y="-6480"/>
            <a:ext cx="8272440" cy="11588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14040" y="15235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assumes an entry that starts with a number or an arithmetic symbol is a valu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value is right-aligned in the cell and is included in calculat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alues are formatted in General style as a defaul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recognizes dates when keyed in a typical date sty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ates have special formats and can be used in date arithmetic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692280" y="1890720"/>
            <a:ext cx="8223120" cy="29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9144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utoCorrect makes some spelling corrections as you type. For example, it corrects “teh” to “th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automatically capitalizes the days of the week and the mon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utoCorrect corrects capitalization errors such as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 aids in efficient data e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7:00:57Z</dcterms:created>
  <dc:creator>Pat R. Graves</dc:creator>
  <dc:description/>
  <dc:language>en-US</dc:language>
  <cp:lastModifiedBy>cathy_tepper</cp:lastModifiedBy>
  <dcterms:modified xsi:type="dcterms:W3CDTF">2010-07-07T21:06:17Z</dcterms:modified>
  <cp:revision>81</cp:revision>
  <dc:subject/>
  <dc:title>Microsoft office</dc:title>
</cp:coreProperties>
</file>